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80A3-29D3-4FBC-B6F8-E564090ABA4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8A7F-18E9-4723-8C51-35E896A1C34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EB19-D3DF-4D03-A958-678AD993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0CE6-01AC-4749-8ABC-79776621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070-F4E9-4A57-A5E3-030CF3CB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81C4-21D2-4981-AA76-240361C4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5B8-8675-44D2-ACC8-80E0AB52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0D1-A4AE-42CA-A599-18902B03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9B7-877F-4275-8BA6-86779344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AA65-C282-4550-92B4-F8DBDB83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46FA-498E-4E99-B385-51490B4A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FABF-4C5C-44D4-A502-68FDE344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951-9359-4B29-8BFA-AC1B86E3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A631-832D-4FFA-AADC-70A0F2CE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8C96-FA33-4957-B8A9-E2C1AF14B1F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I 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CHE COSA SONO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STRUMENTI BASATI SU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SOTTOSTANTI </a:t>
            </a: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ATTIVITA’ FINANZIARIE (o RE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TRE PRINCIPALI</a:t>
            </a: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 CATEGORI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A CHE COSA SERVONO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STRUMENTI PER LA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GESTIONE DEL RISCH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PECULAZIONE (TR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63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Eliminazione totale o parziale del rischio di variazione dei prezzi sulle posizioni detenute nel mercato a pro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PECULAZIONE (TRAD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Ricerca del rischio nella speranza di massimizzare i 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Sfruttamento di temporanee inefficienze del mercato nel suo compl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NASCITA E SVILUPPO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Il mercato dei derivati, nato nei primi anni ’70, si è enormemente sviluppato nel corso degli ultimi dece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ERCATI REGOLAMEN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ERCATO “OT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UTILITA’ DEI DERIVATI PER UN EFFICIENTE FUNZIONAMENTO DEI MERCATI FINANZIA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 flipV="1">
            <a:off x="1835280" y="4149720"/>
            <a:ext cx="4330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1835280" y="4365720"/>
            <a:ext cx="43308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docenti</cp:lastModifiedBy>
  <dcterms:modified xsi:type="dcterms:W3CDTF">2013-03-01T09:55:44Z</dcterms:modified>
  <cp:revision>4</cp:revision>
  <dc:subject/>
  <dc:title>Diapositiva 1</dc:title>
</cp:coreProperties>
</file>